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6DA-915E-4181-8A5E-40E90AB2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9E8-4F67-4A00-AD16-9B16469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D8C-CC28-4E5A-A192-5366EF81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84F-570A-49D3-B89C-E54C11EE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467-C666-4292-A22D-C08EA87D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BAF-93BF-4F76-9008-864D8EC1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708-CD10-486F-915C-2BF3BBF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1F4-D8A0-4FE0-8D4D-FD672803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2DBD-9F59-4D69-98B7-2957E76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8B7-CA87-471C-B686-CADF29C4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38C-5BD6-485D-8C04-1CCAAAE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97A-E4FE-432E-B1F5-51C68EE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AEE4-0AB2-44FC-9498-14B4918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5E4-9714-4843-A5F4-26106EB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92C-A24F-491A-B2C2-E8927DE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E3C4-C07A-4985-BE91-2C179AAA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4069-7B4E-497A-84FE-FD28A0BA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2DA-F4DA-4DF2-A3F8-638E5869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C86-9202-4945-AFB0-F03D937C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33F-35F6-4560-A3ED-199F79E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676-6A07-4632-BBAF-012DDAB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F1A-4BB4-4CF0-9A7A-3E9F6AD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929-0974-4ACD-A15C-DF9D97E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5F0-F372-4CF4-BB78-92D13D3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11280" y="6324480"/>
            <a:ext cx="22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9245-227F-4BD5-BD29-B046DA2C9469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70DED3D-150B-4FF9-9751-A54E00FC915C}" type="datetime10">
              <a:rPr b="0" lang="zh-CN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4F50-B4AB-4CB9-94DA-402984471A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Haettenschweiler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927-1781-49DE-A5C0-2590DA29913D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31</a:t>
            </a:fld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613F9070-E99F-4E93-84BF-180EFE3F19ED}" type="datetime10">
              <a:rPr b="0" lang="zh-CN" sz="1400" spc="-1" strike="noStrike">
                <a:solidFill>
                  <a:srgbClr val="1c1c1c"/>
                </a:solidFill>
                <a:latin typeface="Tahoma"/>
              </a:rPr>
              <a:t>17: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F07D-A56E-4787-BFDA-5815632F327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2286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19044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indent="15228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 indent="1522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 indent="1522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hhe.com/rosen" TargetMode="External"/><Relationship Id="rId2" Type="http://schemas.openxmlformats.org/officeDocument/2006/relationships/hyperlink" Target="http://www.mhhe.com/rosen" TargetMode="External"/><Relationship Id="rId3" Type="http://schemas.openxmlformats.org/officeDocument/2006/relationships/hyperlink" Target="http://www.fusc-ba.org/discrete/index.htm" TargetMode="External"/><Relationship Id="rId4" Type="http://schemas.openxmlformats.org/officeDocument/2006/relationships/hyperlink" Target="http://www.fusc-ba.org/discrete/xxwb/jdck/cks/index.htm" TargetMode="External"/><Relationship Id="rId5" Type="http://schemas.openxmlformats.org/officeDocument/2006/relationships/hyperlink" Target="http://source.eol.cn/gjpxw/thujsj/012/" TargetMode="External"/><Relationship Id="rId6" Type="http://schemas.openxmlformats.org/officeDocument/2006/relationships/hyperlink" Target="http://www.ccshu.org/shu/lssx/home.htm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7084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方正舒体"/>
                <a:ea typeface="方正舒体"/>
              </a:rPr>
              <a:t>离散数学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方正舒体"/>
                <a:ea typeface="方正舒体"/>
              </a:rPr>
              <a:t>Discrete Mathematics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2196720" y="2565360"/>
            <a:ext cx="240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讲人： 陈  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3429000"/>
            <a:ext cx="630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机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9813201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  Q: 328168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mail:chenziyu6732@163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EFB6-4806-4F3B-A6B6-7C1E25BF739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D9929F1-D970-462C-B231-8F606595FCE7}" type="datetime8">
              <a:rPr lang="en-US"/>
              <a:t>07/31/26 17:12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052640"/>
            <a:ext cx="806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用一组基本的指令来编制一个计算机程序，非常类似于从一组公理来构造一个数学证明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            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D.E.Knu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141720"/>
            <a:ext cx="8064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我现在年纪大了，搞了这么多年软件，错误不知犯了多少，现在觉悟了。我想，假如我早在数理逻辑上好好下点功夫的话，我就不会犯这么多错误。不少东西逻辑学家早就说过了，可是我不知道。要是我能年轻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岁的话，我就会回去学逻辑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E.W.Dijkst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082-63B4-4554-93A7-D3DB26F3CA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AE8BE-5381-4C67-969F-2585873838DA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 Black"/>
                <a:ea typeface="华文行楷"/>
              </a:rPr>
              <a:t>陈臣老师简要介绍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907560"/>
            <a:ext cx="8642160" cy="352908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6600cc"/>
            </a:solidFill>
            <a:miter/>
          </a:ln>
          <a:effectLst>
            <a:outerShdw dist="56832" dir="3796358" blurRad="0" rotWithShape="0">
              <a:srgbClr val="ffff99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◎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0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出生于四川平昌，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5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毕业于电子科技大学计算机专业，获硕士学位。目前主要从事智能计算 、信息技术等科研工作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讲师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◎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经历：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5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至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6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，就职于四川省平昌县房管局；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6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至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9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，就职于萍乡学院，任计算机系副主任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◎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科研：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共发表科研论文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篇，其中，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SCI/EI/ ISTP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收录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篇，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篇国内核心，著作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部（近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万余字），主持国家级课题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，参与省级课题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，主持校级课题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，获全国鲁迅文学奖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（国家级），获校级各类奖励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◎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教学：</a:t>
            </a: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高等数学》、《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程序设计》、 《电路分析》、 《人力资源管理》、《诗歌鉴赏》、 《数据结构》、《网络安全技术》、《信息安全原理与应用》、《现代信息技术》、《数字信号处理》、《数据库理论》、《接口技术》及《计算机应用基础》等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华文中宋"/>
                <a:ea typeface="华文中宋"/>
              </a:rPr>
              <a:t>◎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社会荣誉与职务：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入选江西省百千万人才工程、萍乡市科技人才称号；《中国科教创新导刊》特邀编审、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IEEE member,IEEE IITA</a:t>
            </a:r>
            <a:r>
              <a:rPr b="1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国际会议审稿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58920" y="6019920"/>
            <a:ext cx="42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6600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愿与大家共同学习、研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6600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E8CF-9449-465B-90BD-0E9CF500C8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88B0E0-A09C-4871-B59A-2A7BD22E6D47}" type="datetime8">
              <a:rPr lang="en-US"/>
              <a:t>07/31/26 17:1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5960" y="56412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  <a:ea typeface="隶书"/>
              </a:rPr>
              <a:t>关于上课的几点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339640" y="1052640"/>
            <a:ext cx="453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上课时，请准时，杜绝迟到、早退等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上课期间，请把通信工具设置为“静音”或“关机”，杜绝睡觉、闲谈以及不雅之行为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若有急事暂时离开，需向老师请假告之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后请认真复习，多与他人交流学习知识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58D-5118-40E6-949A-2AA025A57F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FF4F5-429C-41E8-A49C-FADBEF2DD093}" type="datetime8">
              <a:rPr lang="en-US"/>
              <a:t>07/31/26 17:12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7796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散数学的由来与发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古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历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Konigsber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桥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进制运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形式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0BE-186F-4850-BCB1-153E33D5B4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FBD47-3B2A-402F-8794-0A4F50FC34C9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2356920"/>
            <a:ext cx="78487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：数理逻辑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thematics Logic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合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Sets)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数结构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gebra Structur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bination)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raph Theory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代数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Linear Algebra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率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pability Theory)……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0" y="90792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散数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30280" y="12160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研究离散量的关系的一门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8120" y="183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研究离散结构的数学分科。（辞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2924280"/>
            <a:ext cx="482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57336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5300640"/>
            <a:ext cx="331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58920" y="4724280"/>
            <a:ext cx="342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D85-B066-4301-A22C-B356F63985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7C8CA-EACE-4ECC-9C08-AF2F66A856CC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836640"/>
            <a:ext cx="8381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散数学的后继课程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据结构、编译技术、数据库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件形式化、算法分析与设计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工智能、数据挖掘、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4724280"/>
            <a:ext cx="8964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离散数学：计算机类、软件工程专业核心课程；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信息类专业、信管类专业必修课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F83-D43C-4D87-8CD9-D6E4802E5D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7B7E9-D452-48AB-82D3-1152A3D4E5A7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71280"/>
            <a:ext cx="35290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教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&amp;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参考书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620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考书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iscrete Mathematics and Its Application (5Ed 2003)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Kenneth H. Ro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cGraw-Hil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  机械工业出版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mhhe.com/rose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iscrete Mathematics   6Ed:   Richard Johnsonbaugh 20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电子工业出版社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prenhall.com/johnsonbau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离散数学   左孝凌、李为褴、刘永才， 上海科技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离散数学（修订版）耿素云、屈婉玲 ，高教社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离散数学 （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版）屈婉玲、耿素云、张立昂 ， 清华大学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离散数学  董晓蕾、曹珍富 ， 机械工业出版社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836640"/>
            <a:ext cx="801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教材：离散数学    屈婉玲、耿素云、张立昂   高教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5F5-EA2B-4427-A548-5931E824FA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8C115-5267-4628-857C-659240D6D0C7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2920" y="71280"/>
            <a:ext cx="27370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相关网站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: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7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mhhe.com/rose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http://www.prenhall.com/johnsonbaug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fusc-ba.org/discrete/index.ht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离散数学专题网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http://www.jpk.pku.edu.cn/pkujpk/course/lssx/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北京大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www.fusc-ba.org/discrete/xxwb/jdck/cks/index.htm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王元元、张桂芸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《离散数学导论》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source.eol.cn/gjpxw/thujsj/012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清华同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离散数学（上）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www.ccshu.org/shu/lssx/home.ht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海大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http://course.bnu.edu.cn/course/bnucourse/discretemath/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北京师范大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57B-378A-4CAE-B696-DCC533EC82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E603B-D83F-4669-A4C9-7703BD215A6A}" type="datetime8">
              <a:rPr lang="en-US"/>
              <a:t>07/31/26 17:12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345520" cy="39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散数学课程的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调：逻辑性、抽象性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重：概念、方法与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, QQ:3281685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6DE-B27D-4669-9062-7A8EAFD823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5292-97CA-4514-B9D3-F8260A084333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3-01T06:49:59Z</dcterms:modified>
  <cp:revision>109</cp:revision>
  <dc:subject/>
  <dc:title>intr</dc:title>
</cp:coreProperties>
</file>